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1A1-6DFE-40B6-BB55-DD80EC76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EE5-6D15-41B4-9F4D-74E55E2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BFDD9-5A44-4948-B118-CECAF9F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6F6C8-32EE-43AA-B0F1-8D66F93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BE3F2-D243-44D0-9E93-2A48BA0D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F52F-59D4-44A1-9132-E19CE96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826B-4B08-4EAF-9AF5-25552E7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89A51-D543-42E2-A1F3-05F65AB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8504-05C4-4B4E-9CBE-3D9EDCC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6F84-4B28-4744-8FAC-08EC08BB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2885-8982-4B76-B2AC-67E6C020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43638-2FD0-4235-B191-54A1FDD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115-AC56-4E67-93CB-BFC3B57E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C9EFD-F464-4257-A6C7-BC6B217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D0BD7-662D-408C-AC9A-4A29907F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3D281-E536-42A6-BE8A-6FEFA01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2EDDE-18DE-4F7F-8EB5-88341F00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7E37B-D9EF-4702-BBF3-185E2EF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339C7-97C9-424D-9C7E-5B87B1E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9ABE4-46B0-434A-BB6B-EC2CDD9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A3D5B-1F9E-4F6A-ADD3-D875568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3264A-72B8-4CFE-9AB2-5E6B0CE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93413-7FE0-4C3E-850D-D4642C68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C79-BE1D-4E48-AE9D-67FE7D69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099F4-5933-4D82-81BD-1AB581B1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B74D-FF52-4C48-BFCA-B38F9D81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CC0A5-E849-48A7-98EF-5975C7A3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43AB-160C-4C40-95B2-04AD9AEC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EFF94-8532-4793-B3F5-4C480743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6CA77-366B-456C-98ED-EC6AC6BC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3087B-E126-44ED-9E56-9E5FE18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360E-4105-42DE-93C6-4695F90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07435-C21B-41EC-804A-671769E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8E2A5-692B-463F-BDD7-1FB2009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0794-CA75-447E-A636-DC8439FA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CF685-2D0B-4BBD-B210-08A3DB70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A795-65DB-40B6-84B5-7FA76480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9D622-63BA-4824-944C-85990E5A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CB86E-3253-42A7-A841-FB2D1968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89B90-E87E-44BB-AAC1-7F3DE893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223E5-FC1E-45A8-AFE3-DA4C2978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1A0ED-F3A9-41D9-B7AE-039A7F6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3C1D8-64CE-4EF8-84A3-861700F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5494-B3FE-47D6-9EF1-6EAE7CE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53241-2537-4A2F-970B-B1A03C7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A88A-9EC8-4CC7-9CB2-049610D3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5BA5-2CD5-4F68-B0D7-8D9DED2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E3567-CDBD-4050-9165-0462F4D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05002-05E7-4723-953E-AEDEFF9E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3092C-C3DC-44E6-9188-81B7BE1B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BF334-D6FC-4756-85CA-41AAD059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80C6-50D9-4757-BF7B-B42FE40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1FF-7075-4BCC-A321-B161678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E4B0-AF20-4C3A-9832-27A710B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44C-F27C-41C9-A938-7123862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32ED-567A-4DFC-9868-EF1A896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914-9545-486A-B7AA-0FACC97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CC5-4B85-4093-82C3-DB59675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AA4-6C8A-4354-82B6-4812689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FF4-6E9D-4598-9585-1847FAB3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DC34-A45B-404D-A856-3AEDA1DB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A18-B81B-4068-9C27-BDA2512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FCED-35DF-45FF-A7D1-741C5CF2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B297-1E24-42A5-94EB-C57840F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BA6A-685C-4616-BDB9-5D3FD0B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EE40-2CC6-47E5-8ECA-1FE788E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654F-65EC-49AE-8E58-234CFB0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DA0-8CEE-476B-9F45-D5968023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7361-2ADC-471C-8E68-65D13B3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3A19-BE80-4B81-A447-6CDCF62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B8C0-305D-4F94-BDB1-954B360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6322-A486-474D-9AA4-78AE452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28AD-33D2-4348-9E1F-70EAC3E3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6DE2-0F0D-4CB6-AC50-21910AC4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16E6-C6D4-4968-A351-09297E87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72B9-E0F9-4F7A-8620-C447770B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2E25-3387-4698-8FB9-4BD5A4D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41CF-CC85-4286-B155-52E05359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EC4-E729-4B15-845D-15C0713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1925-16D7-453B-B2DD-1C367C9A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C65B-49E2-4DDB-99C0-6D3CF33C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BB45-9EA6-488F-8F4B-5FD7E038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1131-ED14-4A56-AD67-A373508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BE1C-06BD-4E46-821E-51081E3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B531-48A5-4573-BBD4-198ACCF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BF9F-A0CD-44C2-BD35-B7F4FC3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5753-0B58-4043-8E35-75903795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9B12-A63A-4F8B-A30A-B480639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7931-2B83-4E47-91A1-14A7371C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F0D-7EEB-4860-8D88-A07A447A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BA10-DD08-41B6-8D9E-D25F2693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BCAF-C0B2-4EC6-9BA4-59C7649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4D51-55A8-4B74-A73D-1001995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03B6-A0D7-409E-BD1D-ED097131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8A90-417F-4ABB-94C9-C3EB032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B8B9-D56B-488A-935E-081A0A0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69CE-E383-4CC2-A198-463D7F1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E34D-5CBA-45FA-9EEF-DDBD3B53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E372-7BE4-4155-B955-E7CD11DC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90F2-6A70-4FEB-82E6-47D5AC87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E6D-E4F5-413A-A4EB-3B04BE8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6146-507A-46FB-BB27-45C31DB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25EC-4359-48E1-99BD-C86DA08C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41B4-4130-43C7-844A-15911A2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4746-B5AE-4BEE-AE75-B4D861D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6F63-4287-4901-B150-E8A4AEC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FBC4-66EF-49AE-82AD-03AB5F1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5772-6199-4356-A582-49DC89EB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54A4-5240-48D0-9466-9CD2DDE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80669-B0AB-4A0A-955F-18A9325B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F01A-4440-4E4D-ADE2-312F31B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910-F26B-4981-85BD-9F1D2BB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EB26-5A90-4E59-8A64-BD16E8C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03EA-B600-4A60-96DE-78B2B745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7697-B4F4-4F0A-BE54-2ECDD4C1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9BA2-08D1-4CB7-9B28-82478F9B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9678-C4CC-4F9E-8B42-2AF8A69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EDA2-39F9-4E34-A6BC-C6CAFAC7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A5BD-67C7-405D-8909-A701A8A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CE01-66C0-4E5F-A382-AB138D8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A7BE7-6DFD-40F7-9701-847061B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40B1-8C18-458F-B602-2DB4031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106-8282-49AD-BE17-D6DB263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571A-B03E-4DE9-BD8B-FABAC346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FAC0-1625-4824-B138-EA4EAA2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91DC-2D8F-460F-8157-027983F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95F6-7F84-4AB6-BFDC-659D4D17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41AC-6B1C-4ED5-A5A6-1F51D507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92CA-B816-41B7-BDDF-42783754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8B89-CC9D-40D6-9B64-09B4825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697B7-56B1-42A4-9CD8-B53A72A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FBF1-55B2-42D5-9952-7DBD5BD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45243-7A34-4ADB-BA72-8D86E64E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C75-6E13-4448-9F92-19A0AE3C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0C81-522D-468C-AF9D-057D2EA6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AB80-A1C8-4877-B57F-317263B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29A43-7759-46CC-AD69-6541458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37BB0-23A4-43CE-B260-7C729D8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234A-5B85-4F7E-9301-FE34BB7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F827-7062-4DB2-A70D-2CB4C692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5B35B-B8F0-4197-9629-D755FD4D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2B9A-9EDB-4420-8508-A629B3AA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CB15-9B27-409E-B229-6D0B0841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843A5-AA11-490F-A8F0-1965F37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265-AEBE-47B0-A010-F8F3F873D7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6630-DBBF-47CD-9E61-9F86AC2E94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8127-FECC-470C-A2B4-286C38F344A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01F-F1A4-48A8-8E2F-617DE46D6D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A87-F539-4EA9-91EC-A3C1D6D887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B76-74E8-4818-990D-163234DB4E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C2D1-D7BD-469B-818E-B9B258FE51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A81-5DD9-473C-9CBA-1184F8C22E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8CEF-D19C-4E67-A642-E36FD23A7F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DA8-E219-42E3-BD42-755D03D24F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F699-5D73-4304-B584-9087CF2FD9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53A-7724-4116-B819-0187301308D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5 Hoc hriešny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hriešny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smiem tvoj krí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, že mi odpustí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a všetkých vín ma pozbaví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vätý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hriešny som, ty, presvätý, mi z lásky ideš v ústre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 veľkej svojej dobrot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prijmeš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hriechom sveta znave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úrnym prúdom tiesn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mi spása pram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z teba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iedny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 dúfa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tvoju milosť veri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 svetlo sveta zr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ávny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hriešny som, ty pri mne stoj, stíš duše mojej nepok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som navždy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vätý Boží Baránok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7:32Z</dcterms:modified>
  <cp:revision>21</cp:revision>
  <dc:subject/>
  <dc:title>Je veľký náš Pán, on slávy je Kráľ Nech do všetkých strán  spev vrúcnych znie chvál.</dc:title>
</cp:coreProperties>
</file>